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A35-10B7-47B9-99C8-AD99DF5E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E53-CF49-4446-8F62-4EBE8CBD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140-0880-436F-8436-107FF6DD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144-358E-41BF-B516-FFA4E16D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0F87-539C-4E62-99C5-4733279C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B3D4-9194-4DB8-8055-1438CEC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0B0-0983-49D5-9A05-3405E04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DC6B-7057-463C-8B75-7977297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064-C42F-4605-A0E5-D91387E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D5D-56DB-43AB-BCD3-77C32C8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4F9F-A63D-4A19-9808-ACE1123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9AD-8B38-43EF-9B05-05901A1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310-AE0B-4DBA-B9BE-BE13FC3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B67C-DE71-48B4-942A-8641388C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689F-76B3-4650-AACA-CE35154B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3672-2F7C-4AEF-8CAE-D3A54252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021-A281-4CD2-8EC4-381D2DCA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AEC-2C72-48A0-A58D-0C1EFE9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40A-7EEB-4E14-BCD9-4FD3A02E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BAD-B451-49CE-BEBE-123535FA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DD0-6453-4140-B035-FD3EA96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4AB-67D9-4AF4-A8AB-5E28812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29F-2E77-494B-AF3F-C350E34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935-9C40-40A2-8B24-DCC6754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E93-894B-4798-92DF-E34CF6BE3B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E63-CC88-4B12-88FF-979A20E2E8F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ol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62120" y="609480"/>
            <a:ext cx="73911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lt Revol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 rot="12046800">
            <a:off x="3428280" y="4571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0" y="5105520"/>
            <a:ext cx="228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ednesday April 28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5410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USIC,FREE PLAY MUSIC, HOLD ON BY A THREAD 5/710,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Colt"/>
          <p:cNvPicPr/>
          <p:nvPr/>
        </p:nvPicPr>
        <p:blipFill>
          <a:blip r:embed="rId1"/>
          <a:stretch/>
        </p:blipFill>
        <p:spPr>
          <a:xfrm>
            <a:off x="0" y="266760"/>
            <a:ext cx="7162920" cy="4305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09680" y="5029200"/>
            <a:ext cx="60199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melson MIT progra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, Colt Revolver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y 10,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eb.mit.edu/invent/iow/colt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evolver is 1 of many different pisto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 was the most popular back then with its sleek sty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 is close brethren to the .98 special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ut the .98 special is a more later mod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ts very easy to reload push a side button and quickly slip the bullets into the chamb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one is one of the first revolv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62120" y="685800"/>
            <a:ext cx="70959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vention: colt revolver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: Sam Col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am was born July 19, 1814 in Hartford,Conneticu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is father ran a small silk and woolens factory, and young Colt began  working very early among the machines and bolts of fabric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is dad taught him many different things about the industry system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am made this for one made reason and that was because he wanted to make sure there was a good gun for handling and easy to draw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21:32Z</dcterms:created>
  <dc:creator>install</dc:creator>
  <dc:description/>
  <dc:language>en-US</dc:language>
  <cp:lastModifiedBy>install</cp:lastModifiedBy>
  <dcterms:modified xsi:type="dcterms:W3CDTF">2010-05-12T17:35:04Z</dcterms:modified>
  <cp:revision>9</cp:revision>
  <dc:subject/>
  <dc:title>Slide 1</dc:title>
</cp:coreProperties>
</file>